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7CC-1071-46C1-A0B4-E38791CA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319-A1E9-4410-A90B-B7BB5DCA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71C-2C5C-483C-9D77-64389168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7B2-F88E-4CD2-9482-AEC3FD30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168D-B498-4C04-B329-90736167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69A83-5978-4A30-9529-F42EFCA5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ECDDF-739E-419F-B36A-722AF7A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9DFB1-2C1C-4A4C-BA1A-4225EA70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6F1D4-2D88-489B-9464-A5F1EE33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8B4BD-60B4-43F7-A4F8-E6EA8DA2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FE050-BA61-4861-925E-A3AB377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732-C2ED-4845-8336-68E6749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075F-E0A1-421D-B8AF-8EB179BC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EA8C7-302D-4F3B-920D-8C2F4905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309FF-46CD-467B-B2B4-311AC584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6096-F882-444E-9DEC-2D0BC81E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0A393-2551-4504-87E7-1C09CF45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63D-1640-4471-AAA9-E0671AAC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F5D-08B5-49A1-A3A0-053EEFFE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720-A8BD-4695-861D-32A0E25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5D8-B5D9-450E-AB0E-04B3031F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03E-F106-4ED7-B2EF-A52F538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A01-FD43-47A3-8113-245C6E5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42B-18C7-457F-983E-D1678F9E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8111-0DFA-4FC6-9F19-B95CEED804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A7D7-EF86-4F30-AD0C-C7D5CE346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ixed numbers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hole number that has a fraction with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4114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1 ½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cen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s of a 1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2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dding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mber to add to a nother number to get a s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0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3:11Z</dcterms:created>
  <dc:creator>nicole.covert</dc:creator>
  <dc:description/>
  <dc:language>en-US</dc:language>
  <cp:lastModifiedBy>nicole.covert</cp:lastModifiedBy>
  <dcterms:modified xsi:type="dcterms:W3CDTF">2010-11-23T20:44:36Z</dcterms:modified>
  <cp:revision>2</cp:revision>
  <dc:subject/>
  <dc:title>vocabulary</dc:title>
</cp:coreProperties>
</file>